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76C-6867-4F4A-BB2D-463D34C7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159-96D9-4A16-8C41-A3940E92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1BBC-16AB-48F0-A0FF-52738BFA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942-865F-49FA-9A0B-C4B80B2C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EB99-34F2-4482-AFAF-8B1AA1B7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449B-B125-4D02-9FDC-0F49667F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0CE9-DE98-479A-A216-DFA52AB5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DB11-0A8F-4DC6-8334-CC57FB31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4CD1F-613D-449A-A7C4-75FD8AA9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54DC-34C7-42A4-BBBF-914833E1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0692-350C-40B3-A260-66D4B9D3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6292-F97C-499B-BCC5-F6E38A8F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CB86-72CA-4BCD-9515-D4CC45AA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7034-49F6-4ECD-906A-A4BD2DDF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1D41-CA7A-48B0-A2B7-607B3D36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F23D-E04D-4C77-9CBE-CF933E63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E0EE-E472-43AB-8E6A-A97742A8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55B-8F68-410D-B844-EA8FF320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1B2-4B7A-4565-AD55-22AAB802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3D08-AEEE-4121-8726-AEED2799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7B18-14E1-405A-85B7-54537201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FD6F-A3B4-4A80-AB2B-B435EAF9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8D4-DAE5-4694-A4E2-345D7F4C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430-A4BB-4871-A0DE-7D80D080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8C02-D191-4B03-BF28-9184332D6F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5012-56D1-44C6-A7B0-79A9F21CC9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IL BOMB RECOGNI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roll R. 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onal Security Offi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757) 441-343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934320" y="4038480"/>
            <a:ext cx="166356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301464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OK FOR THE UNUS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ALWAYS ERR ON THE SIDE OF YOUR SAFETY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OC/OSY Eastern Regional Security Office Staf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roll Ward, - Security Offic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757) 441-343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m Ruhlen - Asst. Security Offic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757) 441-34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sh Neunz - Security Assista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757) 441-362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x (757) 441-342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N CHARACTERISTICS OF LETTER &amp; PARCEL BOMB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OF MAIL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IGN, PRIOROTIY, SPECIAL DELI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TRICTIVE MARKING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IDENTIAL, PERSONAL, TO BE OPENED BY ADDRESSEE ON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N CHARACTERIS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UAL DISTRACTION: FRAGILE, RUSH, HANDLE WITH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ESSIVE POSTAGE (USUALLY POSTAGE STAM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N CHARACTERISI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CTICIOUS OR NO RETURN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ORLY TYPED OR HANDWRITTEN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ORRECT TIT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N CHARACTERIS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LES BUT NO NA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SSPELLINGS OF COMMON WO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Y STAINS OR DISCOLO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N CHARACTERIS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SSIVE OR UNEVEN WEIGHT DISTRIB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ECESSIVE BINDING MATERI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KING, ELECTRIC OR STRAPPING TAPE, STRING, TW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N CHARACTERIS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GID, LOPSIDED OR UNEVEN ENVEL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RUDING WIRES, SCREWS OR OTHER METAL 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TMARK DIFFERENT FROM RETUN A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PER A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ATTEMPT TO OPEN PACK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9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REGIONAL SECURITY OFF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PER AC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OLATE THE PACKAG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CUATE THE IMMEDIATE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7T14:06:22Z</dcterms:created>
  <dc:creator/>
  <dc:description/>
  <dc:language>en-US</dc:language>
  <cp:lastModifiedBy>Carroll.R.Ward</cp:lastModifiedBy>
  <dcterms:modified xsi:type="dcterms:W3CDTF">2008-06-10T19:38:25Z</dcterms:modified>
  <cp:revision>7</cp:revision>
  <dc:subject/>
  <dc:title>MAIL BOMB RECOGNITION</dc:title>
</cp:coreProperties>
</file>